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7B4-A1D7-4A90-85EF-C01241D2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9B6-925F-439A-AE17-BC536D33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559-D7C1-4EDF-8611-EB2D7FBD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75F-248F-409F-AFBC-6D06274A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FAFD-278A-4F9D-9C24-CDB2EF0E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33B6-8DDE-4DBA-84B2-47C26AD2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A3FD-431E-4956-8F9D-2E3C4036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B4F1-9AC8-457F-8F03-364D802E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C11B-7A0F-4E13-8095-A0E1A7BE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7E0B-318B-4556-9223-82D99848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8F13-6CF6-409C-B188-680395ED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F97-E5A2-48E3-8F55-05640D6B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71F-B0DA-4F01-BAA7-FB0A44D8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9330-AF3F-4F57-A453-FAFE129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AD12-6820-4986-9C8B-B4462D57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93B7-4ED3-4747-8F54-2BDFFB40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5F6D-5EEB-4D25-9AC3-849D0003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7A4-0015-46FA-B48E-06B59A4F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68C-5DB1-4084-A159-638532BF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52B-7146-4B6C-A889-E045CAD6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723-0213-49D9-9836-CD330E55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651-E328-443C-9504-BF96589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27A-B1BB-435E-9F7C-FA61AE31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65A-7854-4737-BB71-FE6940C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4878-C123-4D12-A2CD-256A30EE6F9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4B2A-C83E-489D-9F79-E88BF75C1EE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rightoneye.com/b/sites/default/files/cataract%2520photo.jpg&amp;imgrefurl=http://brightoneye.com/b/services/cataract-surgery&amp;usg=__JP09EqenC2LmewKpMom8cuip-LY=&amp;h=288&amp;w=340&amp;sz=84&amp;hl=en&amp;start=9&amp;itbs=1&amp;tbnid=yFZifzZiziNTaM:&amp;tbnh=101&amp;tbnw=119&amp;prev=/images%3Fq%3Dcataracts%2Bof%2Bthe%2Beye%26hl%3Den%26safe%3Dactive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9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General and Special Sen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3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03120" y="431640"/>
            <a:ext cx="853596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rmoreceptors (receptors of temperature)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wo types of thermo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d 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eat 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ound in free nerve endings and other specialize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cells beneath the sk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cattered widely throughout the body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oth types display adapt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oprioception: sense of orientation or posi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oprio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ocated in muscles, tendons, joints, and inner e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information about movement and position i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t to the parietal lob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information pertaining to coordination of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keletal muscle activity is sent to the cerebellu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pecial Sens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ive special sense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mel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st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gh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eari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alan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Smel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lfaction: sense of smel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lfactory 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emoreceptors; stimulated by chemicals tha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solve in the moisture of the nasal tissu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information interpreted with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lfactory area of the temporal lob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Quick adapt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6a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70120" y="222120"/>
            <a:ext cx="560376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Tast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Gustation: sense of tast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ste buds: special organs of taste. Modified epithelial cel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ste 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emoreceptors; sensitive to the chemicals in foo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our basic taste sensations: salty, sweet, sour, and bitt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7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03120" y="511200"/>
            <a:ext cx="853596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Sigh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ision: sense of sigh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s: organs of vis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isual 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isual accessory orga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lash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8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630440" y="239760"/>
            <a:ext cx="58831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0880" y="609480"/>
            <a:ext cx="6400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ensory System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ensory system allows us to experience the world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xternal informat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nternal informat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ball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pherical shape approximately 2 to 3 c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amet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osed of three layers: sclera, choroid,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nd retin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ye Fea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ind Spo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area where your optic nerve attaches to your ey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ve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highest concentration of c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enter of color vision and sharpest vis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9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3120" y="932040"/>
            <a:ext cx="853596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s of the eyeball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cler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utermost lay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de of tough fibrous connective tissu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rnea is a forward extension of the scler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ye Cavitie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sterior Cav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so called the vitreous chamb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tains vitreous bod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terior Cav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tains the anterior and posterior chamb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terior Cav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terior Chamb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pace between the iris and the cor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sterior Chamb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pace between the suspensory ligament and the ir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10c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03120" y="236520"/>
            <a:ext cx="853596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s of the eyeball (cont’d.)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roi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rea between the Sclera and the retin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ighly vascul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ns of the Ey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ld in place by suspensory ligam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cuses visual imag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spensory ligaments control the shape of the ey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loser the object, the suspensory ligaments relax and the lens appears more rou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n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taract: Loss of transparency in the lens. (looks cloudy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124080"/>
            <a:ext cx="403848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38088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ceptors and Sens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ceptor: specialized area of a sensory neuron that detects a specific stimul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ive types of sensory 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emo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receptors (nociceptors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rmo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chano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hoto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s of the eyeball (cont’d.)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tin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nermost layer that lines posterior two-third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f eyebal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tains photoreceptors: rods most abundant 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eriphery, cones most abundant in cent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ptic disk: blind spot because no rods or con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ow seeing occu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ight enters the cornea through the pupi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ens bends (refracts) the light wav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 focus the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hotoreceptors in retina transmit nervo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mpulses to optic nerv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ptic nerve sends signal to occipital lob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ow color vision to occu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re Red, Blue, Gre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gest concetration in the fov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17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03120" y="816120"/>
            <a:ext cx="85359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ctors affecting Blindn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laucoma: Interference with the circulation of the aqueous humor. Increases pressure inside the ey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abe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ed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tinal Detach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ar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vided by receptors in the semicircular cana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cated in the Organ of Cort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aring range: 20-2000 Hertz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asured in decibe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Heari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tructure of the ear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ree part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ternal ear: composed of auricle and externa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uditory canal; extends to eardru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iddle ear: contains eardrum, three tiny bones, an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ustachian tub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ner ear: three parts include vestibule, semicircul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anals, and cochle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22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03120" y="639720"/>
            <a:ext cx="85359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atomy: Middle E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ympanic membrane (Eardrum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llects vibrations from external enviro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r Bones (Ossicle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nect Tympanic membrane to oval window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cu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tapes (smalles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lle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Hearing Work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undwaves collect in the tympanic membra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mbrane vibrates and activates the ossic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ssicles vibrate on the oval wind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bration sent to the Vestibule and through the Cochle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" y="22860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ation: conscious awareness of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coming sensory inform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our components of sensation perception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timul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cepto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nerv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pecial area of the bra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aring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ce the vibration reaches the Cranial nerves from the Cochlea, the soundwave is converted to chemical energy and interpreted by the brai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aring range: 20-2000 Hertz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Balan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ceptors for balance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ocated within the vestibule and th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micircular canals of the inner e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chanoreceptors; hair like projectio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mmersed in fluid of the inner e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25e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751040" y="236520"/>
            <a:ext cx="564048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haracteristics of sensation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ojection: process by which the brain, af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eiving a sensation, refers that sensation back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o its sour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daptation: when sensory receptors a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inuously stimulated, the receptors se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ewer signals to the area of the brain th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prets that particular sensory inform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280" y="30492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General Sens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Five general senses: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ai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emperatur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opriocept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receptors (nociceptors)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sist of free nerve endings stimulated by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issue damag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o not adapt; may continue to send signa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fter stimulus is remove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idely distributed throughout the skin, viscera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rgans, and other internal tissu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ot present in nervous tissue of the bra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2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3120" y="1803240"/>
            <a:ext cx="853596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uch and pressure 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chanoreceptors; respond to forces that press,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ove, or deform tissu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uch receptors are found mostly in the skin;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so called tactile 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essure receptors are located in the skin,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ubcutaneous tissue, and deep tissu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9:57:26Z</dcterms:created>
  <dc:creator>jeff bonomo</dc:creator>
  <dc:description/>
  <dc:language>en-US</dc:language>
  <cp:lastModifiedBy>jeff bonomo</cp:lastModifiedBy>
  <dcterms:modified xsi:type="dcterms:W3CDTF">2010-11-16T14:33:47Z</dcterms:modified>
  <cp:revision>14</cp:revision>
  <dc:subject/>
  <dc:title>Chapter 9 </dc:title>
</cp:coreProperties>
</file>